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85B-6977-4534-A1C5-A216B849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192-0688-4FF3-8D23-6663471C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47D-A81D-4D2E-A836-B2C74BB2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F9C-66BB-42E6-BA78-938DCEB3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C285-3DF8-4144-9CAB-112D048C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2610-F6EC-4020-8151-EA1E32FF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84AE-2280-42DD-AA03-3D896623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0431-0888-4B92-B5E3-DA87BC4E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7FDF-672D-4FF5-BCDA-ED575465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0476-371D-4539-BD1C-EBF39407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3092-D133-4B44-9617-1B45E177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EC1-B9DE-4065-927F-95206075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38CA-A62F-4779-BC3E-102A7824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1871-7D05-42FB-BF66-69AAD80C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A22E-C99E-47C7-A140-A5336E08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C1AA-D848-4D97-B9B9-3E21B11B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96FC-032A-43CD-B78D-A9E34576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B1EF-67A7-4128-B575-EE5214EB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672F-0E35-4FC7-B9FF-9C2F1D41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8E628-8D95-490D-B987-E2EAB2F2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8AEE-53E9-4CCD-923D-E1031461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D2DD-D8DE-4A53-ABE0-8E240AE9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83B-6F40-4711-902E-89E52070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EE573-93B9-4F63-A6F0-C57B6551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172D2-68BC-4616-A873-ECF791CF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5CE8-7E18-4233-8120-FAC878C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2619A-13D7-48F4-81E6-8D271D0B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601F-48D3-41B2-BD54-9656F7BE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96E9-888D-4418-9383-DFF66A51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D9B5E-DDFD-4BED-9ECD-5738F9B7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1F8F9-DA88-4831-BFA2-54882BAB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06CAF-8C86-4BBB-8EEA-B954A27F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E6C70-A5AB-4F15-83EF-ECA150DE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D69-BE69-481C-BFC2-196C259A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697F-C304-43B4-B89C-A824D4CD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85705-026C-434C-88AB-8E5CA973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08E1-5B91-4D2C-AED5-24715998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CD01-48E8-4118-9D5F-CF91F6D4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58AE-507E-4F20-ABD4-26C23750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EB6D-62BF-462D-8910-96D1532A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B0CD4-C302-48E2-9595-69FBD9AF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3F63-B97D-4FF2-B434-7686EC48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5796E-35C6-4209-8054-5FFB920B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FCD71-7671-4CC8-B5F8-2BE6BEBC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457-F051-43EF-B4AC-4131C5AD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146A3-CDAB-40ED-A909-D4C0A5B5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0B247-0E07-4B9D-81D2-E6BD6603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2AEF6-0EB5-4749-BD6A-21307EC4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93C2E-FA2B-4778-8A4D-65321ECD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883AF-47D1-42BB-877D-9B1C3BA2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79AD8-1C56-4540-9CCF-4F60445E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E303A-53A7-4F9D-A1AB-FE8EC7A5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415A7-392C-49B1-8C21-E2960B47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5AB82-AA5B-437B-91E1-841F14BD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0C588-DBD7-4B26-BFB7-39233A5C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B80-75D6-414E-B29D-3522EBDF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061B9-A5DA-4202-97D9-BDA0F50E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A82FB-E68F-4E8A-9503-73D8B878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BC74D-ED1E-4E0F-B998-BFAE9626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58169-BD0C-49C8-B029-5F618897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AAFE8-7854-4280-8095-375092A4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07D7F-0553-4BAA-BA03-4CDA399C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A9AF6-BAB2-41E2-B993-3C763658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425B5-3AF9-49C2-B798-3D107890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BAF96-DD1C-4DA0-B9EE-88522DE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D1667-4740-428B-AA1F-988595D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FB7-B5E3-446B-98FD-0CF479FF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F7001-851D-4F26-8CAA-FFA0B16E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74D62-F788-4C52-AA5E-5C1975DE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A82F2-1F38-4B9D-994B-033CC960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E5EAB-A987-46A8-9FB8-508481B4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C4907-A7A3-4C4E-AA03-DCE160DF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D8658-8B7D-4655-AA19-FD123A81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BC815-58B9-4DF5-BC54-5AB0A9DA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FCEBA-872B-4FEA-8C70-82617F93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D6EBC-B680-475E-8137-ED9CF01C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94041-9136-470A-9E5E-D8A64448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3F4-B084-4F65-BFE6-F10456A9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4987-5A8E-40D7-8DC4-C1ECBFD0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33C7B-3BFF-4688-81AA-A9BE0847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5E453-D781-4323-915A-9BBA7C02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47659-42F9-431C-AA85-09638A38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CA482-E1D2-4AF2-AAF4-E2329C9A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84C0B-8911-4139-9262-CA36F028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77BCB-696F-40CC-99E0-91CF9DAC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6ECAB-9A46-4383-B960-41E0811A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84E34-E425-43D3-88FA-2CD2566F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ED698-66E1-4927-B702-B548AEA9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5E4-3742-49FD-B986-48C7710F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B6CAB-1535-4A7A-84F9-6208ADDF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1731C-1579-472B-9E99-51A85779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76D21-2B9C-497E-A1D6-5A421DC9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69D7F-CF7C-45D3-A890-C08FD0D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40E8D-9E16-45C0-B25E-D28A883D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A7E7-32FD-4A64-90E5-52FA5CAB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98651-FB94-4EFD-8F26-6C44C477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5689-4C3F-47F3-8540-88E59E750E8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D2B4-3C96-44AB-9F44-B61BD0FE0B9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D9C4-B157-4F9A-BCDC-27684107F39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2129-0E31-45B4-8079-D025558997A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9411-AF3B-42AD-9345-309B037571C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3297-E490-45B9-A5F4-D98F9D450FE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FDBE-4F0F-4ECF-99EF-897B8FD4CB0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12D6-D506-4A66-89FC-019B94EBDD3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12 Warm up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219320"/>
            <a:ext cx="85345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e: genome, gametes, chromatin, chromosome, centromere, kinetochore, checkpoint, Cdk, MP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the longest part of the cell cycle?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the diploid number is 46, the haploid number i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Bookman Old Styl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Cell Cycl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: life of a cell from its formation until it divid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44756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Functions of Cell Divis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Reproduction, Growth and Tissue Repai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6" descr="12_02_CellDivFunctions-L.jpg"/>
          <p:cNvPicPr/>
          <p:nvPr/>
        </p:nvPicPr>
        <p:blipFill>
          <a:blip r:embed="rId1"/>
          <a:stretch/>
        </p:blipFill>
        <p:spPr>
          <a:xfrm>
            <a:off x="4724280" y="1676520"/>
            <a:ext cx="4219560" cy="458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12_01ChromosomesCellDiv-L.jpg"/>
          <p:cNvPicPr/>
          <p:nvPr/>
        </p:nvPicPr>
        <p:blipFill>
          <a:blip r:embed="rId2"/>
          <a:stretch/>
        </p:blipFill>
        <p:spPr>
          <a:xfrm>
            <a:off x="609480" y="3505320"/>
            <a:ext cx="37339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Genome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= all of a cell’s genetic info (DNA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Gill Sans MT"/>
              </a:rPr>
              <a:t>Prokaryot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single, circular chromosome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Gill Sans MT"/>
              </a:rPr>
              <a:t>Eukaryot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more than one linear chromosom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g. Human:46 chromosomes, mouse: 40, fruit fly: 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76" name="Picture 4" descr="12_03EukChromosomes-L.jpg"/>
          <p:cNvPicPr/>
          <p:nvPr/>
        </p:nvPicPr>
        <p:blipFill>
          <a:blip r:embed="rId1"/>
          <a:stretch/>
        </p:blipFill>
        <p:spPr>
          <a:xfrm>
            <a:off x="2590920" y="3200400"/>
            <a:ext cx="42670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ookman Old Style"/>
              </a:rPr>
              <a:t>Each chromosome must be duplicated before cell divis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Duplicated chromoso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2 </a:t>
            </a: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sister chromatids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tached by a </a:t>
            </a: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Picture 8" descr="12_05ChromoDupliDist_3-L.jpg"/>
          <p:cNvPicPr/>
          <p:nvPr/>
        </p:nvPicPr>
        <p:blipFill>
          <a:blip r:embed="rId1"/>
          <a:stretch/>
        </p:blipFill>
        <p:spPr>
          <a:xfrm>
            <a:off x="4876920" y="2133720"/>
            <a:ext cx="3932280" cy="4511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" descr="12_04CondensedChromosome-L.jpg"/>
          <p:cNvPicPr/>
          <p:nvPr/>
        </p:nvPicPr>
        <p:blipFill>
          <a:blip r:embed="rId2"/>
          <a:stretch/>
        </p:blipFill>
        <p:spPr>
          <a:xfrm>
            <a:off x="152280" y="3403440"/>
            <a:ext cx="452124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Somatic Ce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Game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dy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ploid (2n): 2 of each type of chromoso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vide by mito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mans: 2n = 4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x cells (sperm/eg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ploid (n): 1 of each type of chromoso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vide by meio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mans: n = 2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hases of the Cell Cycle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7" name="Picture 10" descr="12_06CellCycle-L.jpg"/>
          <p:cNvPicPr/>
          <p:nvPr/>
        </p:nvPicPr>
        <p:blipFill>
          <a:blip r:embed="rId1"/>
          <a:stretch/>
        </p:blipFill>
        <p:spPr>
          <a:xfrm>
            <a:off x="1054080" y="1295280"/>
            <a:ext cx="7099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hases of the Cell Cycle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mitoti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hase alternates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terph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464653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S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G</a:t>
            </a:r>
            <a:r>
              <a:rPr b="0" lang="en-US" sz="2800" spc="-1" strike="noStrike" baseline="-25000">
                <a:solidFill>
                  <a:srgbClr val="464653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mitosis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cytokinesi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Interph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90% of cell cyc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Phas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ell grows and carries out normal function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 Phas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duplicates chromosom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Phas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prepares for cell division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M Ph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mitotic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itosi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nucleus divid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ytokinesi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ytoplasm divid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Mitosis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: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Prophase </a:t>
            </a:r>
            <a:r>
              <a:rPr b="0" lang="en-US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Metaphase </a:t>
            </a:r>
            <a:r>
              <a:rPr b="0" lang="en-US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Anaphase </a:t>
            </a:r>
            <a:r>
              <a:rPr b="0" lang="en-US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Telopha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1" name="Picture 3" descr="12_07_MitosisAnimalCell-L.jpg"/>
          <p:cNvPicPr/>
          <p:nvPr/>
        </p:nvPicPr>
        <p:blipFill>
          <a:blip r:embed="rId1"/>
          <a:stretch/>
        </p:blipFill>
        <p:spPr>
          <a:xfrm>
            <a:off x="380880" y="2743200"/>
            <a:ext cx="85471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Mitosi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142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Continuous process with observable structural featur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Chromosomes become visible (prophase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Alignment at the equator (metaphase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Separation of sister chromatids (anaphase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Form two daughter cells (telophase &amp; cytokinesis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94" name="Picture 3" descr="12_07_MitosisAnimalCell-L.jpg"/>
          <p:cNvPicPr/>
          <p:nvPr/>
        </p:nvPicPr>
        <p:blipFill>
          <a:blip r:embed="rId1"/>
          <a:stretch/>
        </p:blipFill>
        <p:spPr>
          <a:xfrm>
            <a:off x="1523880" y="4191120"/>
            <a:ext cx="617220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92040"/>
            <a:ext cx="74674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Prophase &amp; Prometap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" descr="12_07aMitosisAnimalCell-L.jpg"/>
          <p:cNvPicPr/>
          <p:nvPr/>
        </p:nvPicPr>
        <p:blipFill>
          <a:blip r:embed="rId1"/>
          <a:stretch/>
        </p:blipFill>
        <p:spPr>
          <a:xfrm>
            <a:off x="304920" y="1447920"/>
            <a:ext cx="85471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762120" y="392040"/>
            <a:ext cx="74674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Metaphase &amp; Anap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12_07bMitosisAnimalCell-L.jpg"/>
          <p:cNvPicPr/>
          <p:nvPr/>
        </p:nvPicPr>
        <p:blipFill>
          <a:blip r:embed="rId1"/>
          <a:srcRect l="0" t="0" r="33988" b="0"/>
          <a:stretch/>
        </p:blipFill>
        <p:spPr>
          <a:xfrm>
            <a:off x="1447920" y="1447920"/>
            <a:ext cx="62625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the end of mitosis and cytokinesis, how do daughter cells compare with their parent cell when it was in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cell’s DNA was measured at 5 picograms. DNA levels range from 3-6 pgms in the cell cycle .  What stage of the cell cycle is this cell in. How do you know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etaphase, if the haploid number is 3, how many chromatids does this cell hav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219320"/>
            <a:ext cx="845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Cytokin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Cytoplasm of cell divided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ill Sans MT"/>
              </a:rPr>
              <a:t>Animal Cell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leavage furrow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Gill Sans MT"/>
              </a:rPr>
              <a:t>Plant Cell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ell plate form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401" name="Picture 2" descr="12_07bMitosisAnimalCell-L.jpg"/>
          <p:cNvPicPr/>
          <p:nvPr/>
        </p:nvPicPr>
        <p:blipFill>
          <a:blip r:embed="rId1"/>
          <a:srcRect l="65814" t="0" r="0" b="0"/>
          <a:stretch/>
        </p:blipFill>
        <p:spPr>
          <a:xfrm>
            <a:off x="5638680" y="609480"/>
            <a:ext cx="35053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Cytokinesis in animal vs. plant cel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4" name="Picture 3" descr="12_10_Cytokinesis-L.jpg"/>
          <p:cNvPicPr/>
          <p:nvPr/>
        </p:nvPicPr>
        <p:blipFill>
          <a:blip r:embed="rId1"/>
          <a:stretch/>
        </p:blipFill>
        <p:spPr>
          <a:xfrm>
            <a:off x="304920" y="1219320"/>
            <a:ext cx="85471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nimal Cell Division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6" name="Picture 1" descr="12_07cMitosisAnimalCell-L.jpg"/>
          <p:cNvPicPr/>
          <p:nvPr/>
        </p:nvPicPr>
        <p:blipFill>
          <a:blip r:embed="rId1"/>
          <a:stretch/>
        </p:blipFill>
        <p:spPr>
          <a:xfrm>
            <a:off x="304920" y="762120"/>
            <a:ext cx="8547120" cy="3170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12_07dMitosisAnimalCell-L.jpg"/>
          <p:cNvPicPr/>
          <p:nvPr/>
        </p:nvPicPr>
        <p:blipFill>
          <a:blip r:embed="rId2"/>
          <a:stretch/>
        </p:blipFill>
        <p:spPr>
          <a:xfrm>
            <a:off x="291960" y="3733920"/>
            <a:ext cx="8547120" cy="30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Plant Cell Division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9" name="Picture 1" descr="12_11_MitosisPlantCell-L.jpg"/>
          <p:cNvPicPr/>
          <p:nvPr/>
        </p:nvPicPr>
        <p:blipFill>
          <a:blip r:embed="rId1"/>
          <a:stretch/>
        </p:blipFill>
        <p:spPr>
          <a:xfrm>
            <a:off x="291960" y="1689120"/>
            <a:ext cx="854712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Arial"/>
              </a:rPr>
              <a:t>Which phases of the cell cycle can you identify?</a:t>
            </a:r>
            <a:endParaRPr b="0" lang="en-US" sz="3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990720" y="1325520"/>
            <a:ext cx="7173720" cy="53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ring anapha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1387440"/>
            <a:ext cx="4114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romosomes walked to poles by motor protei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inetochore microtubules shorten at ends as they depolymeriz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4" name="Picture 6" descr="12_09_AnaphaseKinetochore-L.jpg"/>
          <p:cNvPicPr/>
          <p:nvPr/>
        </p:nvPicPr>
        <p:blipFill>
          <a:blip r:embed="rId1"/>
          <a:stretch/>
        </p:blipFill>
        <p:spPr>
          <a:xfrm>
            <a:off x="4419720" y="152280"/>
            <a:ext cx="440676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ookman Old Style"/>
              </a:rPr>
              <a:t>Bacterial cells divide by 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Binary Fiss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6" name="Picture 3" descr="12_12BinaryFission_4-L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54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ell Cycle Control System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Checkpoi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control point where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1" lang="en-US" sz="2800" spc="-1" strike="noStrike">
                <a:solidFill>
                  <a:srgbClr val="00b050"/>
                </a:solidFill>
                <a:latin typeface="Gill Sans MT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ignals regulate the cell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Picture 3" descr="12_15MechAnalogyCellCyc-L.jpg"/>
          <p:cNvPicPr/>
          <p:nvPr/>
        </p:nvPicPr>
        <p:blipFill>
          <a:blip r:embed="rId1"/>
          <a:stretch/>
        </p:blipFill>
        <p:spPr>
          <a:xfrm>
            <a:off x="1981080" y="2362320"/>
            <a:ext cx="50054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Major Checkpoint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28240" y="1219320"/>
            <a:ext cx="8839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checkpoint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Most important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Controlled by cell size, growth factors, environment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“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Go</a:t>
            </a: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”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completes whole cell cycle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“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Stop</a:t>
            </a: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”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cell enters nondividing state (G</a:t>
            </a:r>
            <a:r>
              <a:rPr b="0" lang="en-US" sz="2600" spc="-1" strike="noStrike" baseline="-25000">
                <a:solidFill>
                  <a:srgbClr val="464653"/>
                </a:solidFill>
                <a:latin typeface="Gill Sans MT"/>
              </a:rPr>
              <a:t>0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Phase)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2" marL="957240" indent="-4629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rve, muscle cells stay at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; liver cells called back from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checkpo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957240" indent="-4629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rolled by DNA replication completion, DNA mutations, cell siz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-spindle (Metaphase) checkpo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eck spindle fiber (microtubule) attachment to chromosomes at kinetochores (anchor sites)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12_16G1Checkpoint-L.jpg"/>
          <p:cNvPicPr/>
          <p:nvPr/>
        </p:nvPicPr>
        <p:blipFill>
          <a:blip r:embed="rId1"/>
          <a:stretch/>
        </p:blipFill>
        <p:spPr>
          <a:xfrm>
            <a:off x="304920" y="1371600"/>
            <a:ext cx="8547120" cy="4700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man Old Style"/>
              </a:rPr>
              <a:t>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Bookman Old Style"/>
              </a:rPr>
              <a:t> Checkpoint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the correct phase of the cell cycle/mitosis for the follow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cells that no longer divide or rarely divide are in this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ster chromatids separate and move apa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totic spindle begins to for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ll plate or cleavage furrow for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romosomes re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romosomes line up on equatorial pl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uclear membrane fo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romosomes become visi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M-spindle Checkpoint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Mitotic spindle at metapha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5" name="Picture 5" descr="12_08_MitoticSpindle-L.jpg"/>
          <p:cNvPicPr/>
          <p:nvPr/>
        </p:nvPicPr>
        <p:blipFill>
          <a:blip r:embed="rId1"/>
          <a:stretch/>
        </p:blipFill>
        <p:spPr>
          <a:xfrm>
            <a:off x="977760" y="1332000"/>
            <a:ext cx="7328160" cy="484020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5"/>
          <p:cNvGrpSpPr/>
          <p:nvPr/>
        </p:nvGrpSpPr>
        <p:grpSpPr>
          <a:xfrm>
            <a:off x="4800600" y="4419720"/>
            <a:ext cx="4114800" cy="2264040"/>
            <a:chOff x="4800600" y="4419720"/>
            <a:chExt cx="4114800" cy="2264040"/>
          </a:xfrm>
        </p:grpSpPr>
        <p:grpSp>
          <p:nvGrpSpPr>
            <p:cNvPr id="427" name="Left Arrow 6"/>
            <p:cNvGrpSpPr/>
            <p:nvPr/>
          </p:nvGrpSpPr>
          <p:grpSpPr>
            <a:xfrm>
              <a:off x="4800600" y="4620600"/>
              <a:ext cx="1192680" cy="829080"/>
              <a:chOff x="4800600" y="4620600"/>
              <a:chExt cx="1192680" cy="829080"/>
            </a:xfrm>
          </p:grpSpPr>
          <p:pic>
            <p:nvPicPr>
              <p:cNvPr id="428" name="Left Arrow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4620600"/>
                <a:ext cx="119268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5037840" y="4819320"/>
                <a:ext cx="880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TextBox 4"/>
            <p:cNvSpPr/>
            <p:nvPr/>
          </p:nvSpPr>
          <p:spPr>
            <a:xfrm>
              <a:off x="5843520" y="4419720"/>
              <a:ext cx="3071880" cy="2264040"/>
            </a:xfrm>
            <a:prstGeom prst="roundRect">
              <a:avLst>
                <a:gd name="adj" fmla="val 25750"/>
              </a:avLst>
            </a:prstGeom>
            <a:gradFill rotWithShape="0">
              <a:gsLst>
                <a:gs pos="0">
                  <a:srgbClr val="eccec6"/>
                </a:gs>
                <a:gs pos="100000">
                  <a:srgbClr val="eccec6"/>
                </a:gs>
              </a:gsLst>
              <a:lin ang="900000"/>
            </a:gradFill>
            <a:ln w="38160">
              <a:solidFill>
                <a:srgbClr val="b88472"/>
              </a:solidFill>
              <a:miter/>
            </a:ln>
            <a:effectLst>
              <a:outerShdw dist="270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Gill Sans MT"/>
                </a:rPr>
                <a:t>Kinetochore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= proteins associated with DNA at centrom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12_17_G2Checkpoint-L.jpg"/>
          <p:cNvPicPr/>
          <p:nvPr/>
        </p:nvPicPr>
        <p:blipFill>
          <a:blip r:embed="rId1"/>
          <a:srcRect l="0" t="0" r="0" b="59356"/>
          <a:stretch/>
        </p:blipFill>
        <p:spPr>
          <a:xfrm>
            <a:off x="1828800" y="1219320"/>
            <a:ext cx="6154560" cy="330984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Internal Regulatory Molecule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380880" y="43434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Kinas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(cyclin-dependent kinase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MS PGothic"/>
              </a:rPr>
              <a:t> Cd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): protein enzyme controls cell cycle; active when connected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MS PGothic"/>
              </a:rPr>
              <a:t>cyc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MS PGothic"/>
              </a:rPr>
              <a:t>Cycl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: proteins which attach to kinases to activate them; levels fluctuate in the cell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Internal Regulatory Molecule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304920" y="1219320"/>
            <a:ext cx="845820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7388c"/>
                </a:solidFill>
                <a:uFillTx/>
                <a:latin typeface="Arial"/>
              </a:rPr>
              <a:t>MPF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aturation-promot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</a:t>
            </a:r>
            <a:r>
              <a:rPr b="1" lang="en-US" sz="2600" spc="-1" strike="noStrike">
                <a:solidFill>
                  <a:srgbClr val="a7388c"/>
                </a:solidFill>
                <a:latin typeface="Arial"/>
              </a:rPr>
              <a:t>cyclin-Cdk complex</a:t>
            </a:r>
            <a:r>
              <a:rPr b="0" lang="en-US" sz="2600" spc="-1" strike="noStrike">
                <a:solidFill>
                  <a:srgbClr val="a7388c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allows cells to pass 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go to M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12_17_G2Checkpoint-L.jpg"/>
          <p:cNvPicPr/>
          <p:nvPr/>
        </p:nvPicPr>
        <p:blipFill>
          <a:blip r:embed="rId1"/>
          <a:srcRect l="0" t="38014" r="0" b="0"/>
          <a:stretch/>
        </p:blipFill>
        <p:spPr>
          <a:xfrm>
            <a:off x="2286000" y="2514600"/>
            <a:ext cx="49546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External Regulatory Factor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38" name="Picture 5" descr="12_19_CellDivInhibition-L.jpg"/>
          <p:cNvPicPr/>
          <p:nvPr/>
        </p:nvPicPr>
        <p:blipFill>
          <a:blip r:embed="rId1"/>
          <a:stretch/>
        </p:blipFill>
        <p:spPr>
          <a:xfrm>
            <a:off x="304920" y="1295280"/>
            <a:ext cx="85471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294920"/>
            <a:ext cx="83059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Growth Factor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roteins released by other cells to stimulate cell divi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Density-Dependent Inhibition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wded cells normally stop dividing; cell-surface protein binds to adjoining cell to inhibit grow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chorage Dependence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lls must be attached to another cell or ECM to divi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External Regulatory Factor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Cancer Cell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Cance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disorder in which cells lose the ability to control growth by not responding to regul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ultistep process of about 5-7 genetic changes (for a human) for a cell to transfor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ses anchorage dependency and density-dependency regul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3" name="Group 9"/>
          <p:cNvGrpSpPr/>
          <p:nvPr/>
        </p:nvGrpSpPr>
        <p:grpSpPr>
          <a:xfrm>
            <a:off x="1600200" y="3983040"/>
            <a:ext cx="6464160" cy="2435760"/>
            <a:chOff x="1600200" y="3983040"/>
            <a:chExt cx="6464160" cy="2435760"/>
          </a:xfrm>
        </p:grpSpPr>
        <p:pic>
          <p:nvPicPr>
            <p:cNvPr id="444" name="Picture 5" descr="12_19aCellDivInhibition-L.jpg"/>
            <p:cNvPicPr/>
            <p:nvPr/>
          </p:nvPicPr>
          <p:blipFill>
            <a:blip r:embed="rId1"/>
            <a:srcRect l="0" t="0" r="0" b="25521"/>
            <a:stretch/>
          </p:blipFill>
          <p:spPr>
            <a:xfrm>
              <a:off x="1600200" y="4016880"/>
              <a:ext cx="2971440" cy="20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6" descr="12_19bCellDivInhibition-L.jpg"/>
            <p:cNvPicPr/>
            <p:nvPr/>
          </p:nvPicPr>
          <p:blipFill>
            <a:blip r:embed="rId2"/>
            <a:srcRect l="0" t="0" r="0" b="24511"/>
            <a:stretch/>
          </p:blipFill>
          <p:spPr>
            <a:xfrm>
              <a:off x="4876560" y="3983040"/>
              <a:ext cx="3187800" cy="21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Box 7"/>
            <p:cNvSpPr/>
            <p:nvPr/>
          </p:nvSpPr>
          <p:spPr>
            <a:xfrm>
              <a:off x="1600200" y="6019920"/>
              <a:ext cx="20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rmal Ce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8"/>
            <p:cNvSpPr/>
            <p:nvPr/>
          </p:nvSpPr>
          <p:spPr>
            <a:xfrm>
              <a:off x="4876560" y="6019920"/>
              <a:ext cx="20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ncer Ce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" descr="12_20MalignantTumor-L.jpg"/>
          <p:cNvPicPr/>
          <p:nvPr/>
        </p:nvPicPr>
        <p:blipFill>
          <a:blip r:embed="rId1"/>
          <a:stretch/>
        </p:blipFill>
        <p:spPr>
          <a:xfrm>
            <a:off x="1828800" y="3200400"/>
            <a:ext cx="6121440" cy="3444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umors = mass of abnormal cel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Benign tumo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lump of cells remain at original 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Malignant tumo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invasive - impairs functions of 1+ organs (called cance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Metastas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cells separate from tumor and travel to other parts of b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7" descr="cancer3.jpg"/>
          <p:cNvPicPr/>
          <p:nvPr/>
        </p:nvPicPr>
        <p:blipFill>
          <a:blip r:embed="rId1"/>
          <a:stretch/>
        </p:blipFill>
        <p:spPr>
          <a:xfrm>
            <a:off x="6146640" y="4191120"/>
            <a:ext cx="2845080" cy="26668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Cancer Prevention</a:t>
            </a:r>
            <a:br>
              <a:rPr sz="3600"/>
            </a:b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yone can get cancer but there are ways to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minimiz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risk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 smoke, legal or illegal (includes hookahs, chew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hand smok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sun prote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ercise and keep weight at ideal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t 5-7 servings of fruit and veggies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a da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screening/preventative measures-breast/testicle/mole check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actice abstinence or use condo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accines (eg. HPV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the difference between plant and animal cell divis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asurements of the DNA amount per nucleus were taken.  DNA levels ranged from 3-6 picograms per nucleus, what stage of the cell cycle are these cells i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63800" indent="-51444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nucleus has 3 pg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63800" indent="-51444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with 6 pg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63800" indent="-51444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 pg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binary fissio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Bookman Old Styl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 we know the cell uses chemical signal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mmarize the cell control syst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e a cancer cell to a normal cell.  What goes wro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3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e sexual to asexual reproduc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e/contrast mitosis to meios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the events of meios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3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and compare the 3 sexual life cyc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es random assortment, crossing over and random fertilization contribute to genetic varia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e:  locus, karyotype, alternation of generations, synapsis, tetrad, chiasm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9320" y="2895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hapter 12: The Cell Cycl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What you must know: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tructure of the duplicated chromoso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ell cycle and stages of mitos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ole of kinases and cyclin in the regulation of the cell cyc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9:12:23Z</dcterms:created>
  <dc:creator>Jackie</dc:creator>
  <dc:description/>
  <dc:language>en-US</dc:language>
  <cp:lastModifiedBy>Roman-Wensing, Kayla</cp:lastModifiedBy>
  <dcterms:modified xsi:type="dcterms:W3CDTF">2017-11-13T16:30:23Z</dcterms:modified>
  <cp:revision>83</cp:revision>
  <dc:subject/>
  <dc:title>Chapter 12-13 THE CELL CYCLE/MEIOSIS and SEXUAL LIFE CYLES</dc:title>
</cp:coreProperties>
</file>